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oney-close.wav" ContentType="audio/x-wav"/>
  <Override PartName="/ppt/media/carcr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52C6-0F4E-47B6-8F52-185BEC31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C58C-DBC5-418C-AD82-A7945235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6B1E-7535-4F62-A163-0ECD588E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28F9-D7EB-4D75-A7FB-E64CE37E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B810-C8A3-42A9-A217-62CFF46E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9550-5785-4F08-AC4D-3D9677B5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FDEB-73C6-42B9-AE6D-2683EEFB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BE1E-EAF4-4753-924D-2A85F17E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74B4-7CE0-456C-9E5B-67AA6C5F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CF2D-1E52-4A69-BD34-1B3E94EE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19F0-E687-4718-ADC6-CE93C7E2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931B-EF66-41B1-B53C-3CCAEC09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314E-9727-4F2D-82D7-600A316D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D1A0-2D15-434E-8B9B-AB11413C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AF3A-1FBC-43C7-94F3-5DC7A12D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A0E1-B91D-436A-83FD-41667086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E189-740C-462E-835A-A72F1830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EA0D-3640-4953-8A37-33AD0E46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9D24-0C3D-4ED7-9735-EF79449E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5083-CBBA-45A0-873D-EF49FFDC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DF4A-4D97-42D9-A610-FE0AA2CF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D95B-0541-4E8C-B9E8-8863DE94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7AD1-5446-4D80-A19E-0766028D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D9AF-BAB2-4FFD-ADD1-A8D07C31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0A2A-77EE-4682-AD47-695AF5E19E15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1323-F412-4EE7-8A3D-39D5A21B9F9F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loney-close.wav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enty Questions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oney-cl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enty Ques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2840" cy="3724200"/>
        </p:xfrm>
        <a:graphic>
          <a:graphicData uri="http://schemas.openxmlformats.org/drawingml/2006/table">
            <a:tbl>
              <a:tblPr/>
              <a:tblGrid>
                <a:gridCol w="1538640"/>
                <a:gridCol w="1538640"/>
                <a:gridCol w="1538280"/>
                <a:gridCol w="1538640"/>
                <a:gridCol w="1538640"/>
              </a:tblGrid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5:03:25Z</dcterms:created>
  <dc:creator>Connie Campbell</dc:creator>
  <dc:description/>
  <dc:language>en-US</dc:language>
  <cp:lastModifiedBy>cmassengale</cp:lastModifiedBy>
  <dcterms:modified xsi:type="dcterms:W3CDTF">2006-05-31T16:40:45Z</dcterms:modified>
  <cp:revision>3</cp:revision>
  <dc:subject/>
  <dc:title>Twenty Questions </dc:title>
</cp:coreProperties>
</file>